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A38-1055-4A93-A663-BAF78A3AC0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2384-AB55-4AAB-BD43-41A90587C5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97D-2789-43F1-B04D-FBC190C8772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8C8-AAD9-4CE5-B13A-CD5D4A05C21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7BA-E2EE-46C8-BDD6-5FB4FBFDB08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B8B3-587D-48C1-A356-B953AEF738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41BB-E073-45C7-8801-5AF0F46B26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2A8-3DE8-4C9C-9978-C9D09F65BF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1334-AC97-4495-AF84-280EB8715A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64C-D39C-46F0-960A-803BD104A4C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315-B5B8-4509-8BA5-5184799FB6D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0436-9DF9-42DF-81E5-5B16085593A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6372-A947-40FF-B1A5-18D8A39461A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BBEB-1B72-4B6D-8321-1EFA3A16E97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D348-5978-4CBD-A28A-22F04DF6BD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6306-D7B4-4F19-A4B9-DB028BC2B89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578-6FF6-4FE8-9FEE-51F83FFABC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6F2-9426-45DD-9649-36F6D222752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253-1CC1-45FB-B865-10DF0E9CE49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82D0-3D3D-493E-81A6-1BEBEC12546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730-CD2F-443A-A348-05EC78DB82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9A7-A8DA-4A8D-B91D-EA4D005A5E0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F8B-362C-48B0-AD1C-E3FBACEB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63A-48DB-4AE4-95F4-23AB05CA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B49-60A8-4D2D-B395-76541BCF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79B-DCEA-4C3E-BEE0-8C8B7E27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DCD-936D-426A-AE50-6319784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C77-D391-4B9E-B3E8-2CE9C69D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D9D-7099-4421-97A3-DBEF3F32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047-5472-4BC3-852D-6F0682A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2F4-77C6-4BF2-B988-F817D3E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CB6-0178-4006-B457-26B93719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037-CED6-41A5-9EB3-547B517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528-F47C-4C70-9F1F-A4D767D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2C2-7860-424C-998A-A791220E479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1T14:23:39Z</dcterms:modified>
  <cp:revision>7</cp:revision>
  <dc:subject/>
  <dc:title>MANAGEMENT  OF ALCOHOL WITHDRAWAL  IN A GENERAL HOSPITAL SETTING- CL PSYCHIATRY PERSP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